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E2A-BE50-4B59-BA64-1B14861C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AD6-83AF-4B66-B12F-1588173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6FEE7-23CF-4D40-A938-73AA6C06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998C-1E20-4C87-8325-F95BAB51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30D39-141F-4C3B-91F1-8694E8D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57810-FB30-48DD-8944-2212F27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3CEA1-7B26-4EFE-889F-909C237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8453B-4D17-4911-889D-A2D2AAB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5E37E-F992-4065-BCAF-CC7B5F6F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CA3CF-38B1-4587-977A-18925D88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85EDB-6E7B-4379-8443-AE44B8BC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D651A-BF16-4C1D-B3C2-B7DB4ABE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5E0-A638-4009-B391-538B2FF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87E3B-A1BC-449D-A221-A4B9ADB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145D7-F941-478F-9CD7-79C7AF9C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5B3F3-B13E-410C-9604-0FD9B2A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72C5F-5FEE-452D-8D87-A3F40117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6EE37-49C6-4FE7-9A21-173FCCA3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CD2AE-FF56-4B65-B6C1-FC406F3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8DA54-7F5E-4C8A-9004-2876987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D553B-EDCE-41F6-BA24-9A031DD1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3AF72-BEDF-4DF8-A350-AF6054C4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BA12E-FC12-4EEF-BF29-378367C7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731-A2E9-4387-AA30-29BB5C33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C9072-6D7C-4A68-A8AF-185D5C24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10353-DD39-4A97-9B34-DF58FF07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81657-DB4A-444D-A478-606C7CCA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4AA2B-9266-4B34-B86C-7764157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AA6EA-7B4B-4E9C-A5F9-5BF1B1C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33B61-919A-4CD6-90C8-5D3D3607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8A9CE-817D-4CD4-980B-CC0D987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9053D-0F30-499E-80E6-1ED99F0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E36AC-6EA3-4BC9-9A88-85105082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FB343-376C-4202-9996-F930603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A2A9-67BD-415B-B805-EDA584E5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E010-A2E1-482C-AF30-024F5F4A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F197A-6812-4136-BFAD-1B7AF5BD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A76E7-313D-4279-A7BB-3D67C519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7BC61-9EB3-4614-B4F1-CD16092C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BA55-D34C-4722-BFCD-2ED87569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D85CC-F8E3-4A9D-A896-C49408D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0FF58-F233-421F-AA1C-D9F8A0E5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95543-D7E1-4E9C-B5B3-3ABD3EB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CF14A-BDCA-4AD3-BC50-EF1D13A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2093C-4CA8-48E2-B146-276319E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B033-D98B-4F46-8167-C9E2A62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F61BC-8C0D-4AF7-9672-9B80FFE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674F0-832B-4426-BD3F-883F1D3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32558-D182-43E2-B7BC-5C628765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74AEF-0B9D-4FBA-B91B-1D96AA68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3F82B-81EF-4522-91BF-AB5BE9F4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8F72-B329-4ECA-B9A3-6967992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1A6A-FBD3-45BC-B164-0ACF2C39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1A4-6BA4-4BF0-BA05-BE145D42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87CE-3E56-4C56-BCA9-496E6700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BE6-974E-4A62-98A5-A32CB41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73F-364C-4D72-96C4-7FD7C83F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60FC-547B-44C0-B432-C1BAA7D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97D8-78D8-473B-8AFB-3C09AD2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EB22-2E1B-4B8E-B4CE-1896D646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3EF2-1E58-4037-A50F-64DF7E9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7D07-EEA5-4326-9E7F-B473B5C8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329E-03BE-40CA-BE39-157D7C6C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B374-430D-49D2-8DD4-B720BD2B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9FFB-6855-4515-89CC-ED50AA46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C291-5D4E-4019-8E80-A2E17DB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334E-B0E8-49D6-968A-9D2340B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8AD-0EA0-43A6-8D5A-3A080F3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407A-2DAF-4749-9887-2AD014F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2B0A-F76E-4FE2-BC60-236E0DF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DE60-67DC-4B90-B8C0-66EC74D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472F-327A-4A5C-B319-08114F7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991C-05FE-40D2-BC1C-28E03227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EC7B-71F2-483E-A2B0-4DE747E1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332A-6655-4F08-B609-02597DB7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3CE1-22F4-43F0-9E58-99DC6BB0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9CA2-3507-44BE-85E6-62C7940E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38CE9-CE2E-473D-8C2F-4595BB78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4BB-BF51-428B-AE08-A6D318E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8FF2-C4AA-41D1-9944-B5040447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144E-4FEC-4DE9-9864-3E61AEAF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B238-F739-46C4-934B-B41E0923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803F-9592-4DFA-9693-D9A575BB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F53A-69FF-4238-AC0A-824B388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C548-5FE6-4528-8662-6300FFD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9632-89C2-46CE-B8A8-609BE87B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06E1-F287-435B-84BB-A0052BAA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D71B-D1BA-400F-9D31-6BC926F7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FB79-52B4-4A23-AC82-433D7A45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AB3-10F4-4EB2-9E7E-9E775E5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DE24-AB44-4553-AB3A-78C56B5C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9251C-F2B7-46C3-82B8-8DDFB19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FBC10-B22B-45A8-9D4B-60A3226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CE6E-A441-44F8-A733-178DAA44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3344-EAC7-415B-A7D4-2EEF82D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1E10C-7D87-4D24-9206-FE4F12E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46CA-C951-4744-90AC-25AD6B0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2F7A-2A82-4F97-937E-F359D756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7293-714F-4A5E-820D-35DFA4D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42A5-50DB-42FC-8CA4-5F1EA377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730-0251-476B-A278-1D7FFCE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F1A50-27A9-476F-B54E-AF4F10AD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4FB4D-7440-4A80-A5FB-247784D3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8D9EC-100E-4606-BBD2-40AF363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8D16E-C6E1-47A3-B3E2-E40DF79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EA8F9-0746-4CA0-836F-BD949A3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43FC-468E-406B-8D85-48B8F4CD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B71F-D8FB-4B4B-8477-DBC72D85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6859C-4D86-4C9A-979E-5A1F428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7201-4E11-48CB-A4C3-390741F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5F9A-CBAF-473E-A1D9-FB21CCE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55A-263A-4B3B-8FFD-832EA75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CCB1-D918-48A5-83E7-AF210372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A7850-4594-4A9E-A1D2-7DAD8D25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9831-8FEB-4F05-BC1F-F03FE8A0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F56B9-E897-426A-AF3E-A47AD087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219D1-747E-4BE6-9A3A-59811BB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9EF5-3B67-4662-B9E4-5C67BBC8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DF9C-EB64-4669-A600-89DCB05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B0D7-EE54-4BE4-9D98-F3031A9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CC847-A330-4EF5-BB84-F64C8D03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F8BFB-341F-47D2-9E73-F72EF54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9DF-D274-4EC7-8522-F8F08A2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3349-E83A-4A00-9D1E-658CADF1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60485-E668-46D7-8BE2-946A2A4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5EA6-7B3B-4CB4-9BED-B8BAEAD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9A57C-B37B-4F10-95C3-74AAA7DE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9BE7-6F11-4762-AF1B-A0F53FD3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C775D-675D-4E4D-A372-91BE269D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A4B50-7CA7-494C-B16E-8712827B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104D-915D-4FBD-80E0-856899C6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03C2-4242-42E1-9A49-073A7F0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666A-8108-4FA3-87A5-542BAF1A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E59-2871-44E9-9DC4-7103AB3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2201-E842-4467-9158-BCC4F600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3484-2DA6-4F64-AC40-90AF5CB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A685-0A86-4D8C-B62F-B5DCD4E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5249B-295A-418C-8D20-890F4383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A29F-3B92-444D-8272-C54949B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A24DE-0424-4E8B-8DC1-815936B0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868A0-6EAD-439D-8BA1-3EEA321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4784C-2BF6-4D5A-A3F1-62FBE15B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8905B-727C-4F33-AB54-5823FDB5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E5476-592D-4C35-B0CD-AEFEE3AF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374-E1CC-48DF-81FB-955262CD3AA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6001-DB8B-4CD5-9D6F-0411D4BA189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71D-34E4-4AD1-9D84-7F470879F20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FD39-EBA9-4DBA-8C1D-D2AC1EEBDCF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1FBE-E1FA-4756-8021-B74A21B3391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01E5-6440-426B-B07F-B40BF8EFF3C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AF70-CD90-4C7B-8C27-BF2720E1BA3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51F5-834C-4410-9A1B-6A972897323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94D0-C71C-487B-8D8A-E6AD3B37653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1CE-AFDC-4FF6-8EB8-ABAC0CE048A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C9CF-5533-42E3-880F-893F5B2D766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9D4-A5AC-4E64-BE9B-0363823E583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90 Blaho tam, kde sľuby svä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Blaho tam, kde sľuby sväté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samo nebo požehná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de dve srdcia v jedno späté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pojí láska úprimn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Šťastní tí, čo miesto ve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nosť láske dávaj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laho tam, kde muž i žen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Božiu pomoc dúf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am šťastie prevé b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sa s Pánom radiť chcú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eď sa slnko za mrak skrý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 modlitbe vždy pokľak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am láska čistá bla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Pán všetko spravu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osou zhora srdcia vlaž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pokoj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dá svoje požehnani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ým, čo vierou prosia oň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die nad nimi neprestaj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ich verným sprievodc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vy svojho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a svadbu dnes pozvit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ezpečne s ním až do ci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estou lásky dôjdete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8:57Z</dcterms:modified>
  <cp:revision>93</cp:revision>
  <dc:subject/>
  <dc:title>Je veľký náš Pán, on slávy je Kráľ Nech do všetkých strán  spev vrúcnych znie chvál.</dc:title>
</cp:coreProperties>
</file>